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D2D-DC7F-4FB0-89FD-E616A789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826-0482-4F1E-978E-DD4BAAA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CE8-449C-47EA-916C-EFFC37B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3934-9444-4275-879A-B4DB1355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D853-1D95-4A84-B435-A6D1B17D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FB4C-D783-4D90-AA15-0961D1E4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354-BF07-49EA-A12F-A88EEE93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1858-7643-4841-A1E4-F2C7A64A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C69B-004F-4215-80A6-8A24DD1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BBE9-CE1A-4ACF-8251-26DE1D5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7CED-3A5F-4BA5-90C3-5956BA56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1FB-2787-4071-91EF-84030A8F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A1B5-4DC5-45CE-89BE-AC73314A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721B-20A4-4504-9C28-96F922FE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691-E92B-4984-9891-888E1BD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613F-27C0-45C6-8225-177CE898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706B-45E1-4DA4-8670-C8DBDFC4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B663-DF69-49F8-ABA5-3099E49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31E-01BD-42C0-8030-2D5147A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EBA-6587-40BF-833F-D68F3123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989-3282-4B0C-8FF3-3D64A062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1B4-0F1D-4107-ADED-CCDF4FF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7D4-DD61-4168-9997-4E03BF2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901-8613-4F53-BB0D-4CDFCDC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9CC5-9F98-4A2E-BAC1-045257622A1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9233-6624-4510-98B1-28FA53FA41B5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n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2590920"/>
                <a:ext cx="84916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-18 (multiple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-2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order to clear the frac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very term by the LCD (least common denom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lears the denominators and leaves you with the new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check to see if there are any restri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209680" y="2819520"/>
                <a:ext cx="3905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776240" y="2819520"/>
                <a:ext cx="4773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219320" y="2819520"/>
                <a:ext cx="588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94040" y="2819520"/>
                <a:ext cx="43401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095480" y="2819520"/>
                <a:ext cx="61387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2438280"/>
                <a:ext cx="8494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17:53Z</dcterms:created>
  <dc:creator>Parkland High School</dc:creator>
  <dc:description/>
  <dc:language>en-US</dc:language>
  <cp:lastModifiedBy>test</cp:lastModifiedBy>
  <dcterms:modified xsi:type="dcterms:W3CDTF">2015-05-08T12:04:26Z</dcterms:modified>
  <cp:revision>2</cp:revision>
  <dc:subject/>
  <dc:title>Rational Equations</dc:title>
</cp:coreProperties>
</file>